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19.jpeg" ContentType="image/jpeg"/>
  <Override PartName="/ppt/media/image17.png" ContentType="image/png"/>
  <Override PartName="/ppt/media/image20.wmf" ContentType="image/x-wmf"/>
  <Override PartName="/ppt/media/image16.png" ContentType="image/png"/>
  <Override PartName="/ppt/media/image26.wmf" ContentType="image/x-wmf"/>
  <Override PartName="/ppt/media/image15.jpeg" ContentType="image/jpeg"/>
  <Override PartName="/ppt/media/image25.wmf" ContentType="image/x-wmf"/>
  <Override PartName="/ppt/media/image8.gif" ContentType="image/gif"/>
  <Override PartName="/ppt/media/image21.wmf" ContentType="image/x-wmf"/>
  <Override PartName="/ppt/media/image18.jpeg" ContentType="image/jpeg"/>
  <Override PartName="/ppt/media/image36.png" ContentType="image/png"/>
  <Override PartName="/ppt/media/image30.png" ContentType="image/png"/>
  <Override PartName="/ppt/media/image10.jpeg" ContentType="image/jpeg"/>
  <Override PartName="/ppt/media/image31.png" ContentType="image/png"/>
  <Override PartName="/ppt/media/image3.gif" ContentType="image/gif"/>
  <Override PartName="/ppt/media/image32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29.png" ContentType="image/png"/>
  <Override PartName="/ppt/media/image6.gif" ContentType="image/gif"/>
  <Override PartName="/ppt/media/image35.png" ContentType="image/png"/>
  <Override PartName="/ppt/media/image7.gif" ContentType="image/gif"/>
  <Override PartName="/ppt/media/image37.png" ContentType="image/png"/>
  <Override PartName="/ppt/media/image38.png" ContentType="image/png"/>
  <Override PartName="/ppt/media/image9.jpeg" ContentType="image/jpeg"/>
  <Override PartName="/ppt/media/image11.gif" ContentType="image/gif"/>
  <Override PartName="/ppt/media/image12.wmf" ContentType="image/x-wmf"/>
  <Override PartName="/ppt/media/image4.gif" ContentType="image/gif"/>
  <Override PartName="/ppt/media/image27.png" ContentType="image/png"/>
  <Override PartName="/ppt/media/image2.jpeg" ContentType="image/jpeg"/>
  <Override PartName="/ppt/media/image23.jpeg" ContentType="image/jpeg"/>
  <Override PartName="/ppt/media/image28.png" ContentType="image/png"/>
  <Override PartName="/ppt/media/image5.gif" ContentType="image/gi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D24-8AA7-44AA-9D54-08AF250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524-6FB7-4DEA-966D-9C6F46F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862-6F2A-439E-810E-E5DD74D7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60E-EAE1-4B83-9DEC-6878E80A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DDE5-6C74-4FC3-B493-4A9DE5FC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D56B-3FB9-42C8-900D-650BCC68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22E-A8D6-4EA7-94A9-755AC17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3E7-5FE3-440F-AFC0-500B4D12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23A-D2D4-48D1-9ED2-A923AE0A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CAC0-67ED-4BBD-BAED-F8844516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470-093B-4A31-AF3F-459D097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497-85B7-485B-B991-25698D1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621-6F9D-44D8-B4B1-2E217FC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9EB9-7FF1-476A-8309-565B5A1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3A69-E780-4B24-9174-FFB4EC0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629-A6D2-414B-9783-6218E558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694D-32DE-49DC-96B6-B6A72DA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84BA-1A7E-48B9-9F59-3B411D35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1BCD-43DA-41D6-B6EC-F6A0004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0375-25B0-4B7B-B4B7-18BDBF2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655C-61EC-4AF5-9820-8E08C99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EB9B-D569-4BCC-ABBE-F227557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AEC-B8F2-4941-AABF-49B5579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810E-8B5F-42DF-AC6D-AB01F991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D022-D7EF-48A1-B113-6B66BEB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030E-530A-4108-8B0B-AF71203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8FC5-35EB-4416-A7F7-C24B042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7C29-AFC3-4A9F-848A-C301A5F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6ADA-F163-4C1A-9F35-3721AC6B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54C9-D145-41AC-AF04-41639B66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D2A-B8A3-4417-B556-87DE20E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5C2-4E9E-49CD-9FFC-87F559C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0D7-E5E2-403C-BCA1-E130F9B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EDF-E642-4F7B-8D75-0C00608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44F-A55D-450E-B94A-50E9A5F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0FD-746E-44DC-B688-9F80473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D62-D2F0-4349-A392-CAD76637B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607-FF7D-4C80-8A79-241764CB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CE7-A9D9-4E92-B68E-E8D85A79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7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571920"/>
            <a:ext cx="8962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319480" cy="422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0"/>
            <a:ext cx="7093080" cy="4724280"/>
          </a:xfrm>
          <a:prstGeom prst="cloudCallout">
            <a:avLst>
              <a:gd name="adj1" fmla="val -43444"/>
              <a:gd name="adj2" fmla="val 28092"/>
            </a:avLst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Monotype Corsiva"/>
              </a:rPr>
              <a:t>GHICI, 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Monotype Corsiva"/>
              </a:rPr>
              <a:t>GHICITOAREA MEA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ARELE NU DOGORE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ŞTE,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FRUNZIŞUL SE VEŞTEJEŞTE,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STRÂNGEM ROADE 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GOA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RE.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CÂND SE-NTÂMPLĂ ASTA O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68360" y="19080"/>
            <a:ext cx="6875640" cy="6838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170028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108000" y="227016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amna cea de roade pli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copt fructele-n grăd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-27000"/>
            <a:ext cx="7848720" cy="6885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-38160" y="1844640"/>
            <a:ext cx="489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ţi acei ce-ntreaga va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 lucrat din zori în sea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amna au roade bog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 şi fructe şi bu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1413000"/>
          <a:ext cx="914400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116000" y="404640"/>
            <a:ext cx="1841400" cy="1403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-27000"/>
            <a:ext cx="36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re, pere în pan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une bune şi al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Şi gutui amăr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 puf galben ca de pu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584360" cy="131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1195560" cy="1568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08720" y="2133720"/>
            <a:ext cx="1376640" cy="1728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24000" y="4908600"/>
            <a:ext cx="2476440" cy="190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539640" y="2924280"/>
            <a:ext cx="1548000" cy="2160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7451640" y="4581360"/>
            <a:ext cx="1455840" cy="227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5651640" y="3357720"/>
            <a:ext cx="1800000" cy="15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564000" y="1557360"/>
            <a:ext cx="1584360" cy="1474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4788000" y="5043600"/>
            <a:ext cx="2016000" cy="18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Şi tot felul de legume,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nu le mai ştii pe n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2916360" y="4724280"/>
            <a:ext cx="1836720" cy="18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2700360" y="3357720"/>
            <a:ext cx="1942920" cy="1438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5784840" y="1628640"/>
            <a:ext cx="144468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2205000"/>
            <a:ext cx="7201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IZATO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ÎNV.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RNELIA PRIH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ŞCOALA GENERALĂ IERN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68360" y="549360"/>
            <a:ext cx="67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Monotype Corsiva"/>
              </a:rPr>
              <a:t>TOAMN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bb00"/>
            </a:gs>
            <a:gs pos="50000">
              <a:srgbClr val="ffcc00"/>
            </a:gs>
            <a:gs pos="100000">
              <a:srgbClr val="eab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11280" y="1557360"/>
            <a:ext cx="60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FENOMENE</a:t>
            </a:r>
            <a:r>
              <a:rPr b="1" lang="ro-RO" sz="8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ALE</a:t>
            </a:r>
            <a:r>
              <a:rPr b="1" lang="ro-RO" sz="8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NATURII</a:t>
            </a:r>
            <a:r>
              <a:rPr b="1" lang="ro-RO" sz="8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1584360" cy="150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80080"/>
            <a:ext cx="2195640" cy="1577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588000" y="2751120"/>
            <a:ext cx="2141640" cy="14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68360" y="2789280"/>
            <a:ext cx="1942920" cy="1252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443640" y="5229360"/>
            <a:ext cx="19130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16000" y="216000"/>
            <a:ext cx="630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ână albă şi pufoas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ând pluteşte tot mai joas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se umflă cenuşi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E semn că ploaia o să v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005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6000" y="1085760"/>
            <a:ext cx="3924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ic, pic, p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trop, trop, 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ic, pic, p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trop, trop, 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c-un pic şi inc-un s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louă, plouă, plou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Boabe limpezi ca de rou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484360" y="3857760"/>
            <a:ext cx="6659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1240" y="44280"/>
            <a:ext cx="449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işcă frunzele-n livez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iar dacă-l auzi, nu-l vez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rengile îndoaie-n lunc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af şi frunze-n zări arunc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225440" cy="873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1042920" cy="10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59280" y="76500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lbene şi roşii fru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n copac s-au desfrunz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că-n aer obo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pământ toate-au căz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15620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279360"/>
            <a:ext cx="3745080" cy="2847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3920" y="3500280"/>
            <a:ext cx="3771720" cy="312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0560" y="3716280"/>
            <a:ext cx="4249440" cy="286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1268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A venit pe nesimţ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oamna cea din zare-albast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Şi-a stropit în zori cu a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Pomii din livada noastr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5000" y="3878280"/>
            <a:ext cx="295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ăsări călăt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 dorul de s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 auzi trecâ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În stoluri plecâ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11760" y="4365720"/>
            <a:ext cx="3432240" cy="2038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92360" y="44280"/>
            <a:ext cx="6840360" cy="652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87708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7308720" y="765000"/>
            <a:ext cx="497160" cy="586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7885080" y="1197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8317080" y="1557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169236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1042920" y="144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24000" y="144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755640" y="72072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332000" y="1152360"/>
            <a:ext cx="49680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763640" y="1512720"/>
            <a:ext cx="4968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2:48Z</dcterms:created>
  <dc:creator>Vasile Prihoi</dc:creator>
  <dc:description/>
  <dc:language>en-US</dc:language>
  <cp:lastModifiedBy>Vasile Prihoi</cp:lastModifiedBy>
  <dcterms:modified xsi:type="dcterms:W3CDTF">2007-02-27T19:05:34Z</dcterms:modified>
  <cp:revision>15</cp:revision>
  <dc:subject/>
  <dc:title>Diapozitivul 1</dc:title>
</cp:coreProperties>
</file>